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BD9D-0C1B-41AA-A803-D4C53264E0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900A-88AE-4177-855F-C9A3E078BDF8}" type="slidenum">
              <a:rPr b="0" lang="es-E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87FF-BFAF-43C1-B787-1F5DA4A5C8DF}" type="slidenum">
              <a:rPr b="0" lang="es-ES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E7F-3C0B-4BF3-A9EE-74AAA72F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CEE-EBC7-4E60-AEFD-6C50FF50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287-6E2F-4062-9F83-F89F51E7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E27-2FF5-4009-869A-B75FB763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CDB-1D16-4C11-BBBB-BA202823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BDC-FD79-47CA-B87B-051B4A4A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0C3-CFA1-4295-BD97-D9C4C17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845-B27D-47D5-86BD-458AC214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886-9187-4AA2-B7CA-294556AB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C35-6D68-4035-BE03-0EACF5CE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60B-6EDF-47CA-BA17-7E89197F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575-DB86-4E00-ADE6-9A450F9C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8610480" y="1844640"/>
            <a:ext cx="533520" cy="1828800"/>
            <a:chOff x="8610480" y="1844640"/>
            <a:chExt cx="533520" cy="1828800"/>
          </a:xfrm>
        </p:grpSpPr>
        <p:pic>
          <p:nvPicPr>
            <p:cNvPr id="11" name="Picture 16" descr="j0315558"/>
            <p:cNvPicPr/>
            <p:nvPr/>
          </p:nvPicPr>
          <p:blipFill>
            <a:blip r:embed="rId4"/>
            <a:stretch/>
          </p:blipFill>
          <p:spPr>
            <a:xfrm rot="5400000">
              <a:off x="8609760" y="2493720"/>
              <a:ext cx="537840" cy="5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7" descr="j0315568"/>
            <p:cNvPicPr/>
            <p:nvPr/>
          </p:nvPicPr>
          <p:blipFill>
            <a:blip r:embed="rId5"/>
            <a:stretch/>
          </p:blipFill>
          <p:spPr>
            <a:xfrm rot="5400000">
              <a:off x="8607960" y="1846800"/>
              <a:ext cx="5382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18" descr="j0315584"/>
            <p:cNvPicPr/>
            <p:nvPr/>
          </p:nvPicPr>
          <p:blipFill>
            <a:blip r:embed="rId6"/>
            <a:stretch/>
          </p:blipFill>
          <p:spPr>
            <a:xfrm rot="5400000">
              <a:off x="8609760" y="3139200"/>
              <a:ext cx="537840" cy="530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3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7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2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3" name="Picture 19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0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1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55BA-DF2C-4ED9-9E89-944BE6106960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0" y="5162040"/>
            <a:ext cx="898200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e2947"/>
                </a:solidFill>
                <a:latin typeface="Arial"/>
              </a:rPr>
              <a:t>Fabián Domínguez</a:t>
            </a:r>
            <a:endParaRPr b="0" lang="en-US" sz="4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e2947"/>
                </a:solidFill>
                <a:latin typeface="Arial"/>
              </a:rPr>
              <a:t>Setiembre - 2015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361800"/>
            <a:ext cx="89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ACTUALIDAD TRIBUTARIA NACIONAL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DCD9-F5D2-4E1E-9561-0B4DEA5F0C8D}" type="slidenum">
              <a:rPr b="0" lang="en-US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2003 Y LA REFORMA FIS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1640" y="234900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e2947"/>
                </a:solidFill>
                <a:latin typeface="Arial"/>
              </a:rPr>
              <a:t>FINANZAS PÚBLICAS DEBILITADA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e2947"/>
                </a:solidFill>
                <a:latin typeface="Arial"/>
              </a:rPr>
              <a:t>DEUDA EXTERNA ATRASADA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e2947"/>
                </a:solidFill>
                <a:latin typeface="Arial"/>
              </a:rPr>
              <a:t>CESACIÓN DE PAGO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e2947"/>
                </a:solidFill>
                <a:latin typeface="Arial"/>
              </a:rPr>
              <a:t>RECAUDACIÓN TRIBUTARIA DEPRIMIDA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e2947"/>
                </a:solidFill>
                <a:latin typeface="Arial"/>
              </a:rPr>
              <a:t>LEY 2421/04 – LEY 2422/04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ULTIMAS REFORMAS…..CAUSAS Y CONSECU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92000" y="2033640"/>
            <a:ext cx="72453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163e6a"/>
                </a:solidFill>
                <a:latin typeface="Arial"/>
              </a:rPr>
              <a:t>LEY 2421/04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163e6a"/>
                </a:solidFill>
                <a:latin typeface="Arial"/>
              </a:rPr>
              <a:t>LEY 2422/04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163e6a"/>
                </a:solidFill>
                <a:latin typeface="Arial"/>
              </a:rPr>
              <a:t>LEY 4673/12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163e6a"/>
                </a:solidFill>
                <a:latin typeface="Arial"/>
              </a:rPr>
              <a:t>LEY 5061/13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10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63e6a"/>
                </a:solidFill>
                <a:latin typeface="Arial"/>
              </a:rPr>
              <a:t>EL IMPACTO EN LAS RECAUDACIONES……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RECAUDACIÓN DEL 20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17640" y="6480"/>
            <a:ext cx="9380520" cy="72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PARTICIPACIÓN DE LOS PRINCIPALES IMPUESTOS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8 Gráfico" descr=""/>
          <p:cNvPicPr/>
          <p:nvPr/>
        </p:nvPicPr>
        <p:blipFill>
          <a:blip r:embed="rId1"/>
          <a:stretch/>
        </p:blipFill>
        <p:spPr>
          <a:xfrm>
            <a:off x="-50760" y="1173240"/>
            <a:ext cx="92455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85920" y="233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IVA DEL PARAGUAY EL MAS PRODUCTIVO Y EFICIENTE DE 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376280" y="1854360"/>
            <a:ext cx="590724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5648400"/>
          </a:xfrm>
          <a:prstGeom prst="rect">
            <a:avLst/>
          </a:prstGeom>
          <a:ln w="0">
            <a:noFill/>
          </a:ln>
        </p:spPr>
      </p:pic>
      <p:sp>
        <p:nvSpPr>
          <p:cNvPr id="151" name="1 Rectángulo"/>
          <p:cNvSpPr/>
          <p:nvPr/>
        </p:nvSpPr>
        <p:spPr>
          <a:xfrm>
            <a:off x="1557360" y="458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400" spc="-1" strike="noStrike">
                <a:solidFill>
                  <a:srgbClr val="ffffff"/>
                </a:solidFill>
                <a:latin typeface="Arial"/>
              </a:rPr>
              <a:t>EL SISTEMA TRIBUTARIO MAS INJUST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1 Rectángulo"/>
          <p:cNvSpPr/>
          <p:nvPr/>
        </p:nvSpPr>
        <p:spPr>
          <a:xfrm>
            <a:off x="8037360" y="2708280"/>
            <a:ext cx="720720" cy="1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476280" y="239400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0000"/>
                </a:solidFill>
                <a:latin typeface="Antique Olive Roman"/>
              </a:rPr>
              <a:t>QUE OCURRIRÁ A FUTURO….?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4" name="Imagen 1" descr="stock photo : Figuras del negocio y signo de interrogación"/>
          <p:cNvPicPr/>
          <p:nvPr/>
        </p:nvPicPr>
        <p:blipFill>
          <a:blip r:embed="rId1"/>
          <a:stretch/>
        </p:blipFill>
        <p:spPr>
          <a:xfrm>
            <a:off x="3311640" y="977760"/>
            <a:ext cx="2160360" cy="1355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971640" y="3564000"/>
            <a:ext cx="2925720" cy="1881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5337000" y="3559320"/>
            <a:ext cx="24195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MUCHAS GRACIAS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762120" y="1809720"/>
            <a:ext cx="7619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836640" y="1808280"/>
            <a:ext cx="75470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1d528d"/>
                </a:solidFill>
                <a:latin typeface="Arial"/>
              </a:rPr>
              <a:t>LOS ANTECEDENTES…</a:t>
            </a:r>
            <a:endParaRPr b="0" lang="en-US" sz="5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ffffff"/>
                </a:solidFill>
                <a:latin typeface="Arial"/>
              </a:rPr>
              <a:t>ANTECEDENTES DEL ST A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Un antes y un después de 1989 desde la perspectiva impositiva…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4797360" y="3192480"/>
            <a:ext cx="2295720" cy="199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601640" y="3192480"/>
            <a:ext cx="2190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66640" y="3682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ffffff"/>
                </a:solidFill>
                <a:latin typeface="Arial"/>
              </a:rPr>
              <a:t>ANTECEDENTES INICIOS DE LOS 90´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47920"/>
            <a:ext cx="52401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EL EJERCICIO DE LA COMPETENCIA TRIBUTARIA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LOS IMPUESTOS VIGENTES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EL MINISTERIO DE HACIENDA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LAS FISCALIZACIONES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381640" y="1673280"/>
            <a:ext cx="2857320" cy="2100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5832360" y="4203720"/>
            <a:ext cx="28465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ffffff"/>
                </a:solidFill>
                <a:latin typeface="Arial"/>
              </a:rPr>
              <a:t>EL APOYO TECNOLOGICO DE LA EPO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41280" y="1566720"/>
            <a:ext cx="3691080" cy="273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5292720" y="1860480"/>
            <a:ext cx="2852640" cy="2143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2575080" y="4003560"/>
            <a:ext cx="30160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600" spc="-1" strike="noStrike">
                <a:solidFill>
                  <a:srgbClr val="ffffff"/>
                </a:solidFill>
                <a:latin typeface="Arial"/>
              </a:rPr>
              <a:t>LA REFORMA TRIBUTA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1640" y="1942920"/>
            <a:ext cx="823608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APARICIÓN DE LA LEY 125/91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REFORMA DEL EJERCICIO DE LA COMPETENCIA TRIBUTARI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APARECE LA SET (LEY 109/91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NUEVOS IMPUESTOS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NUEVOS PROCEDIMIENTO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1d528d"/>
                </a:solidFill>
                <a:latin typeface="Arial"/>
              </a:rPr>
              <a:t>NUEVOS FORMULARIO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800" spc="-1" strike="noStrike">
                <a:solidFill>
                  <a:srgbClr val="ffffff"/>
                </a:solidFill>
                <a:latin typeface="Arial"/>
              </a:rPr>
              <a:t>1993  SUCESIÓN PRESIDENCIAL  y SU IMPACTO EN EL 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6280" y="144936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800" spc="-1" strike="noStrike">
                <a:solidFill>
                  <a:srgbClr val="1d528d"/>
                </a:solidFill>
                <a:latin typeface="Arial"/>
              </a:rPr>
              <a:t>INCREMENTO DE LAS RECAUDACIONES….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800" spc="-1" strike="noStrike">
                <a:solidFill>
                  <a:srgbClr val="1d528d"/>
                </a:solidFill>
                <a:latin typeface="Arial"/>
              </a:rPr>
              <a:t>A MEDIADOS DEL GOBIERNO CRISIS FINANCIERA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800" spc="-1" strike="noStrike">
                <a:solidFill>
                  <a:srgbClr val="1d528d"/>
                </a:solidFill>
                <a:latin typeface="Arial"/>
              </a:rPr>
              <a:t>INTENTO DE GOLPE DE ESTADO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800" spc="-1" strike="noStrike">
                <a:solidFill>
                  <a:srgbClr val="1d528d"/>
                </a:solidFill>
                <a:latin typeface="Arial"/>
              </a:rPr>
              <a:t>CONSECUENCIAS EN LA ECONOMIA PUBLICA Y EL S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616280" y="3144960"/>
            <a:ext cx="3916440" cy="293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522360" y="3564000"/>
            <a:ext cx="35337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000" spc="-1" strike="noStrike">
                <a:solidFill>
                  <a:srgbClr val="ffffff"/>
                </a:solidFill>
                <a:latin typeface="Arial"/>
              </a:rPr>
              <a:t>1998 nuevo gobiern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Antecedentes (condena del candidato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Conformación de dupla presidencia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Elecciones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Marzo Pyo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200" spc="-1" strike="noStrike">
                <a:solidFill>
                  <a:srgbClr val="1d528d"/>
                </a:solidFill>
                <a:latin typeface="Arial"/>
              </a:rPr>
              <a:t>Juicio político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273400" y="4824360"/>
            <a:ext cx="4368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1:22:39Z</dcterms:created>
  <dc:creator>Silvia Martinez Mendez</dc:creator>
  <dc:description/>
  <dc:language>en-US</dc:language>
  <cp:lastModifiedBy>DELL</cp:lastModifiedBy>
  <cp:lastPrinted>2002-10-25T17:12:49Z</cp:lastPrinted>
  <dcterms:modified xsi:type="dcterms:W3CDTF">2015-09-08T14:21:41Z</dcterms:modified>
  <cp:revision>268</cp:revision>
  <dc:subject/>
  <dc:title>Legislación Mercantil y Fiscal</dc:title>
</cp:coreProperties>
</file>